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8AB-4912-4307-AAEA-1FD0F872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A7D9-2171-452A-A7A2-7F4C8886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980-3336-4022-93C8-A5F63153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9D4-AED5-482C-87A8-647C9BF1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F759-E3AF-49D3-B911-B0F12D6E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E7E5-AEA5-4624-BF1B-5CAAF904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E901-D98F-4F9D-95B1-70031281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0A6E-3DA9-4F70-8B26-81A0F4F0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D70C-B8C6-4C3F-8904-1D2B2E9F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773C-4D5E-4095-ABB3-CF9D2876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CC80-2E5A-4074-8188-17E675B8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B065-D7C0-454A-8AE7-644E83CB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4E6B-5756-4A18-8E3A-A2B2C172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321C-F63B-46C0-B177-B72D2F75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E04B-827C-4CD2-8187-A2B968EB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6C2A-E1FB-41A0-BD25-526203C1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81C2-0C97-48CD-8717-3D95EA9C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689-D55E-4CA2-A7F2-AF42ECA8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E13-0C2A-4CAA-8730-F42D930D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E9C-1F4C-4A50-BB3F-ACF25065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5C4-0949-4E7C-ABB6-FEED3A7E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875-1A24-4D06-B931-73D1BFF1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706-6031-4A50-ABEA-AC9232F8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5279-5C09-429D-9C9B-1DD00D7F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6894-373E-4D5F-9277-19D2039DD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E703-186F-4CF7-AD48-3E4C7313A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21320" y="762120"/>
            <a:ext cx="399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ituição de 1937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90512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. 143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s minas e demais riquezas do subsolo, bem como as quedas d’águas, constituem propriedade distinta da propriedade do solo para o efeito de exploração ou aproveitamento industrial. O aproveitamento industrial das minas e das jazidas minerais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as águ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 da energia hidráulica, ainda que de propriedade privada, depende de autorização feder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lexandre Braule</cp:lastModifiedBy>
  <dcterms:modified xsi:type="dcterms:W3CDTF">2004-08-10T18:21:59Z</dcterms:modified>
  <cp:revision>72</cp:revision>
  <dc:subject/>
  <dc:title>Apresentação do PowerPoint</dc:title>
</cp:coreProperties>
</file>